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DC2D-1C54-41D3-AE35-9989FFFF6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7D3D-DC7E-4397-8FDC-8AC6A90B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F541-066D-499A-B69F-EA60789D7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27E5-58CE-4BE4-8B2A-8BF42FB44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AE18-D3D3-415D-AE43-F7A742D7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A6AB-F2EE-4C60-BE64-E16BD170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06B2-5A36-47BC-AFE0-1B870966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8A1B-C4B1-4DC1-8400-769DE81F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52B8-FE8A-4172-A09D-513390C7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9F5A-7E0B-45F4-AF71-B4FB1FD0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5691-9E6C-48E3-81C5-BAF00EFF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F5BA-A951-4F35-B11F-73C3F14D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385B-A184-4A3B-A17C-752A79C00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 rot="19393200">
            <a:off x="5562720" y="4495320"/>
            <a:ext cx="3105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UY 1 GET 1 FREE! 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H YEAH!!!!!   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 rot="21448800">
            <a:off x="761760" y="380520"/>
            <a:ext cx="7713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ancy Beads</a:t>
            </a:r>
            <a:endParaRPr b="0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3200400"/>
            <a:ext cx="32767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$4 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5:00:41Z</dcterms:created>
  <dc:creator>SAISD</dc:creator>
  <dc:description/>
  <dc:language>en-US</dc:language>
  <cp:lastModifiedBy>SAISD</cp:lastModifiedBy>
  <dcterms:modified xsi:type="dcterms:W3CDTF">2010-04-14T15:30:26Z</dcterms:modified>
  <cp:revision>2</cp:revision>
  <dc:subject/>
  <dc:title> </dc:title>
</cp:coreProperties>
</file>